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43713" cy="9263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044-96C0-498F-B28F-5823321E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B33-2F24-46FE-A0A9-F4E7E016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593-4306-438C-99F5-1138D07D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0D75-55CA-4585-A618-0E8CAE35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716-BE43-41BC-87CD-71EF9752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A03-AD25-4617-97B8-C76B010D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ED9-0B07-4D9B-8EA3-6899DE58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398E-5BC0-4D8B-8FAB-631D9580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D1D0-3CDE-4FE1-8F08-F6D9D25D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3E82-9BF7-4775-AFB2-5FCBE2C1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1BFD-45B0-42FC-BC74-B0875C18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A90-B440-4468-9CDC-65A75308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E4BB-E7A7-4E48-8B92-3ABA5385E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bthslmc.pbworks.com/BTHS+Excellence+By+Design" TargetMode="External"/><Relationship Id="rId4" Type="http://schemas.openxmlformats.org/officeDocument/2006/relationships/hyperlink" Target="http://bthslmc.pbworks.com/BTHS+Excellence+By+Design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438280" y="5335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rlington Township High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362320"/>
            <a:ext cx="712476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idd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xcellence By Desig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ard Of Education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6,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762120" y="2286000"/>
            <a:ext cx="2209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3352680"/>
            <a:ext cx="6477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dentifying Priorities with Three to Five Measurable Objec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HS Administrativ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838080" y="236232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3429000"/>
            <a:ext cx="61722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veloping an Action Pl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ointing Implementation Te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HS Administrativ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762120" y="259092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3581280"/>
            <a:ext cx="655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ing the Accreditation Team, October 19 – 22, 200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533520"/>
            <a:ext cx="5105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To Be Completed by the HS Administrativ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838080" y="2514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V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342900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reditation A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533520"/>
            <a:ext cx="4419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to be Completed by the Middle States Accreditation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62120" y="281952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V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9760" y="3886200"/>
            <a:ext cx="6324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lementation of the Action Plan for Growth and Improv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533520"/>
            <a:ext cx="44960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to be Completed by the EBD Planning Committee and the HS Administrativ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200240" y="2590920"/>
            <a:ext cx="6743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D Planning Committe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t 1 at 6:00 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THS L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743200" y="457200"/>
            <a:ext cx="510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lann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447920"/>
            <a:ext cx="73152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ointment of Internal Coordina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ointment of Planning Te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munication with Faculty, Staff, and Community vi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5360"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EBD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 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ulty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990720" y="2286000"/>
            <a:ext cx="7238880" cy="29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ion of Mission Statemen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ion of Statement of Belief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ion of Profile of the Gradu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tablishing Twelve Subcommitt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457200"/>
            <a:ext cx="510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lann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838080" y="2209680"/>
            <a:ext cx="73915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324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ion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3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urlington Township School District will develop the intellectual, creative, and social potential of each child through an active partnership with all members of the commu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457200"/>
            <a:ext cx="510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lann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838080" y="2286000"/>
            <a:ext cx="73915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ment of Belie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BELIEVE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all students learn based on their individual styles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the school community establishes a safe, secure, and positive cl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mutual respect and appreciation of diversity enriches a comm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57200"/>
            <a:ext cx="5105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lann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743200" y="457200"/>
            <a:ext cx="5105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lann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676520"/>
            <a:ext cx="76960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file of the Grad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BTHS graduate wi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ow respect toward self and others in a personal and professional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critically in order to adapt and apply knowledge to new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 an effective communic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ve knowledge of emerging techno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te productively and ethically as a member of our democratic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200400" y="7621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HS Fa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05120"/>
            <a:ext cx="7391520" cy="40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ulty Indication of Support / Non-support of Mission Stat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ulty Indication of Agreement / Disagreement with Statement of Belief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ulty Indication of Agreement / Disagreement with Profile of the Gradu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ulty Internal Sc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ulty External Sc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895480" y="609480"/>
            <a:ext cx="5257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Subcommit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1905120"/>
            <a:ext cx="58672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ion of Artifacts and Evid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Internal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External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Parent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Student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ve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838080" y="2057400"/>
            <a:ext cx="1981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2895480"/>
            <a:ext cx="6553440" cy="25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veloping the Profile of the School and Its Commun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 of 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ile of Student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ile of Organizational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HS Administrativ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22:31:10Z</dcterms:created>
  <dc:creator>Nina Franco</dc:creator>
  <dc:description/>
  <dc:language>en-US</dc:language>
  <cp:lastModifiedBy>nfranco</cp:lastModifiedBy>
  <dcterms:modified xsi:type="dcterms:W3CDTF">2009-09-16T18:02:30Z</dcterms:modified>
  <cp:revision>58</cp:revision>
  <dc:subject/>
  <dc:title>Accelerated Reader + Instructional Council Members= Reading Success For All!</dc:title>
</cp:coreProperties>
</file>